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16FCC-D0A2-452D-9DD6-0D39BA65A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FC2-ED5A-45A0-ADDC-487058A2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7B8-D4F6-4FDD-BD1F-28A65A78D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F170-226F-4CD0-9913-5649E797D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46B93-F97D-4DA0-B469-A71B0656F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56F7-BB51-491E-8A07-5AC46191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628E-F561-4650-A22B-1564B4F64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6037-F9B6-46A4-AD1F-D2CB3096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C37D4-8D1B-4E39-9DF6-2E3D79051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B3D-F1B7-413B-ADF5-FE0E8F4C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6A59-E1FD-476B-90BD-1D1589AEF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31E7-A951-4CC3-822C-B412C05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A599-3B1A-485A-9887-3980F5D51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8088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Gravity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the force attracting all objects toward each other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Mass 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– the amount of matter in an obje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Weight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force of gravity on an objec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621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vit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295280" y="380880"/>
            <a:ext cx="6248520" cy="581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Inertia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tendency of an object to resist a change in motion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Newton’s First Law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 an object at rest will stay at rest and an object in motion will stay in motion unless acted upon by a force. 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 u="sng">
                <a:solidFill>
                  <a:srgbClr val="000000"/>
                </a:solidFill>
                <a:uFillTx/>
                <a:latin typeface="Arial"/>
              </a:rPr>
              <a:t>Law of Gravitation</a:t>
            </a: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 –every object in the universe attracts every other object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8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ravity No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38200" y="2311560"/>
            <a:ext cx="8069400" cy="380988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09480" y="533520"/>
            <a:ext cx="777240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ton concluded that two factors–gravity and inertia–combine to keep the moon in orbit around Ear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2T12:28:58Z</dcterms:created>
  <dc:creator>skrial</dc:creator>
  <dc:description/>
  <dc:language>en-US</dc:language>
  <cp:lastModifiedBy>skrial</cp:lastModifiedBy>
  <dcterms:modified xsi:type="dcterms:W3CDTF">2010-09-20T14:32:45Z</dcterms:modified>
  <cp:revision>3</cp:revision>
  <dc:subject/>
  <dc:title>Slide 1</dc:title>
</cp:coreProperties>
</file>